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BCF8-9C48-4A4D-BD44-6D2C770D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5FBA-8DD7-4787-B591-13DE6897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D772-D8F3-45EA-8ED4-3F23ACCD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C404-05E5-4AF1-8562-16B3D88D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20A8-6E14-4E65-9517-2FCA9B9F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56A5-1BD2-4F66-9E4C-FE0E1C7A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41BC-24C1-4FBD-8A8F-38D45014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CA31-B406-40F7-9CFF-5984204B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CEEA-EE82-49B1-BD1D-7BDCC340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D323-C40E-46D5-9B96-FEE88A0C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BBAA-7192-4EBB-BEB9-CEEE83F5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60BE-F7B8-4E77-89CA-3960CFAD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2B2C-6156-404F-B49A-191D7E17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B181-85D0-4099-BB35-77BA74CB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E9B9-8EC2-4C67-83FA-033E7D22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7298-2CC0-43BC-9D43-129FC0A6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3A05-7F38-403E-9265-C3B5F2A0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3D10-296B-4F0B-869E-C171500C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CF73-89D4-4F0E-AC96-ACD8C777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FE2D-6B0E-4352-9B38-970E0625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7A70-4348-4192-91C1-872F5AC3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925F-461A-4C5B-B3F7-F44265B5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B3F4-C825-4281-A516-9348BFA2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BAAC-F796-40CA-BF62-E3475380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F428-1109-497B-877B-B958D9ACEBB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22A8-E7E2-40AC-A012-7AF1370455F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0000" y="4723920"/>
            <a:ext cx="59770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осударственное казенное общеобразовательное учреждение Краснодарского края специальная (коррекционная) школа-интернат г.Краснодар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26640" y="1367640"/>
            <a:ext cx="728784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держание работы педагога-психолога в деятельности школьного психолого-педагогического консилиум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98560" y="397080"/>
            <a:ext cx="7929000" cy="188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Перечень документов для представления обучающегося на ПМПК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000" y="2361960"/>
            <a:ext cx="828036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.Копия паспорта или свидетельства о рождении ребенка (предоставляются с предъявлением оригинала или заверенной в установленном порядке копии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.Родителем (законным представителем) предоставляется документ, удостоверяющий его личность, а также документы, подтверждающие полномочия по представлению интересов ребенк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Направление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разовательной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рганизаци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. Подробная выписка из истории развития ребенка с заключениями врачей из медицинской организации по месту жительства (регистрации) по форме; заключения врачей-специалистов, наблюдающих ребенк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5.Психолого-педагогическая характеристика на обучающегося, выданная образовательной организацией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6. Выписка из электронного журнала текущих оценок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7.Письменные работы обучающегося по русскому (родному) языку, математике за учебный год (копии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8.Результаты предыдущих обследований ребенка (заключения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9. Справка МСЭ  (копия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исьмо Минпросвещения России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т 08.02.2019года №ТС-421/07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письме Минпросвещения России обращается внимание на необходимость повышения эффективности работы служб психолого-педагогического сопровождения обучающихся с нарушением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я и письм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«Учение без мучения»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.М.Зегебар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Picture 2" descr="D:\Изображение 008.jpg"/>
          <p:cNvPicPr/>
          <p:nvPr/>
        </p:nvPicPr>
        <p:blipFill>
          <a:blip r:embed="rId1"/>
          <a:stretch/>
        </p:blipFill>
        <p:spPr>
          <a:xfrm>
            <a:off x="1370160" y="2362320"/>
            <a:ext cx="2706480" cy="3724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5348160" y="2362320"/>
            <a:ext cx="25956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D:\image.jpg"/>
          <p:cNvPicPr/>
          <p:nvPr/>
        </p:nvPicPr>
        <p:blipFill>
          <a:blip r:embed="rId1"/>
          <a:stretch/>
        </p:blipFill>
        <p:spPr>
          <a:xfrm>
            <a:off x="179280" y="115920"/>
            <a:ext cx="882036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9160" y="553680"/>
            <a:ext cx="7769880" cy="106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ЕЙС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прос со стороны родителей (законных представителей)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Девочка 10 лет, обучается в 4 классе общеобразовательной организации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вод обращения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читель ежедневно «Жалуется» на невнимательность, неусидчивость, что часто забывает школьные принадлежности, не выполняет домашние задания, отвлекает одноклассников во время уроков, падает успеваемость по математике и русскому языку, активно отстаивает свое мнение в споре как с педагогом, так и с одноклассниками, импульсивна, демонстративн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ЕЙС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прос со стороны учителя начальных классов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Мальчик 8 лет, обучается во 2 классе в общеобразовательной организации по АООП для обучающихся с ЗПР, вариант 7.2» организации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чина обращения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учающийся в учебной деятельности  показывает слабые знания по основным предметам: математика, русский язык, чтение. С выполнением контрольных работ ученик не справился. перенос умений на учебную деятельность непродуктивен, низкая работоспособность и продуктивность, истощаемость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намика познавательного развития отсутствует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C:\Users\Андрей\Pictures\шк4.png"/>
          <p:cNvPicPr/>
          <p:nvPr/>
        </p:nvPicPr>
        <p:blipFill>
          <a:blip r:embed="rId1"/>
          <a:stretch/>
        </p:blipFill>
        <p:spPr>
          <a:xfrm>
            <a:off x="-65160" y="2133720"/>
            <a:ext cx="9209160" cy="31813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419280" y="5373360"/>
            <a:ext cx="5267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Zhanna.uqolskaya@mail.ru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ЛАГОДАРЮ ЗА ВНИМАНИЕ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480" y="621720"/>
            <a:ext cx="7779240" cy="100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Нормативно-правовые документ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Picture 2" descr="C:\Users\Отдел кадров\Desktop\семинар\Изображение.jpg"/>
          <p:cNvPicPr/>
          <p:nvPr/>
        </p:nvPicPr>
        <p:blipFill>
          <a:blip r:embed="rId1"/>
          <a:stretch/>
        </p:blipFill>
        <p:spPr>
          <a:xfrm>
            <a:off x="942840" y="2362320"/>
            <a:ext cx="3178440" cy="4235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rcRect l="8057" t="9309" r="57140" b="5617"/>
          <a:stretch/>
        </p:blipFill>
        <p:spPr>
          <a:xfrm>
            <a:off x="5291280" y="2362320"/>
            <a:ext cx="30286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Нормативно-правовые докумен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10920" y="2362320"/>
            <a:ext cx="399708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ЭТИЧЕСК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КОДЕК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дагога-психолога службы практической психолог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разования Росс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ят на Всероссийском съезде практических психологов образова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760640" y="2362320"/>
            <a:ext cx="39877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РАСНОДАРСКИЙ КРАЕВОЙ ИНСТИТУТ ДОПОЛНИТЕЛЬНОГО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ФЕССИОНАЛЬНОГО ПЕДАГОГИЧЕСКОГО ОБРАЗОВАНИЯ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АБОЧАЯ ТЕТРАДЬ ШКОЛЬНОГО ПСИХОЛОГА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етодические рекомендации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3366"/>
                </a:solidFill>
                <a:latin typeface="Arial"/>
              </a:rPr>
              <a:t>Авторы-составители: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i="1" lang="ru-RU" sz="800" spc="-1" strike="noStrike">
                <a:solidFill>
                  <a:srgbClr val="003366"/>
                </a:solidFill>
                <a:latin typeface="Arial"/>
              </a:rPr>
              <a:t>Рыженко С. К.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кандидат психологических наук, заведующая кафедрой психологии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Краснодарского краевого института дополнительного профессионального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педагогического образования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i="1" lang="ru-RU" sz="800" spc="-1" strike="noStrike">
                <a:solidFill>
                  <a:srgbClr val="003366"/>
                </a:solidFill>
                <a:latin typeface="Arial"/>
              </a:rPr>
              <a:t>Чернявская О.С.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старший преподаватель кафедры психологии Краснодарского краевого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института дополнительного профессионального педагогического образования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1" i="1" lang="ru-RU" sz="800" spc="-1" strike="noStrike">
                <a:solidFill>
                  <a:srgbClr val="003366"/>
                </a:solidFill>
                <a:latin typeface="Arial"/>
              </a:rPr>
              <a:t>Рецензенты: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i="1" lang="ru-RU" sz="800" spc="-1" strike="noStrike">
                <a:solidFill>
                  <a:srgbClr val="003366"/>
                </a:solidFill>
                <a:latin typeface="Arial"/>
              </a:rPr>
              <a:t>Кузма Л.П., Ефрюшкина О.В.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7000" y="702360"/>
            <a:ext cx="7761240" cy="112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Принципы ПП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2320"/>
            <a:ext cx="81979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гуман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комплексного изу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всестороннего и целостного изучения ребен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индивидуализированности изучения ребенка 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четом их возрастных и характерологических особенносте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динамического изу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а обучающего эксперимен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качественно-количественного подхо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56360" y="834120"/>
            <a:ext cx="83149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Компоненты </a:t>
            </a:r>
            <a:br>
              <a:rPr sz="3200"/>
            </a:br>
            <a:r>
              <a:rPr b="1" lang="ru-RU" sz="32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психолого-педагогического сопровожд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провождение тьютора, ассистен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полнительные занятия  с педагог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нятия (групповые /индивидуальные ) с дефектологом (сурдопедагогом, тифлопедагогом, олигофренопедагогом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нятия (групповые /индивидуальные ) с логопедо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нятия (групповые /индивидуальные ) с психолого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нятия (групповые /индивидуальные ) с социальным педагого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нятия ЛФК, занятия в специальной физкультурной группе, ритмикой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намическая оценка состояния ребенка на ПП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34440" y="810720"/>
            <a:ext cx="7322040" cy="163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Этапы консилиумной  деятельности психолога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дварительный этап: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нализ актуальных ресурсов специалистов ОУ, анализ рекомендаций и условий включения ребенка , в том числе анализ документов и определение последовательности «прохождения» специалист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вый этап: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следование ребенка профильными специалистами (в том числе и психологом). Составление индивидуальных заключений всеми специалистами консилиум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торой этап: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ллегиальное обсуждение специалистами полученных результатов обследования. Координация и согласованность взаимодействия специалистов. Определение тактики сопровождения ребенка в инклюзивном пространстве ОУ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етий этап: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ализация решений консилиума ОУ силами специалистов ОУ (внеурочная коррекционно-развивающая работа, включение абилитационной помощи в процесс обучения и воспитания и т.п.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вершающий этап: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намическое/итоговое обследование ребенка (оценка состояния ребенка после окончания цикла сопровождения, учебного года, ступени образования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Задачи деятельности в процессе сопровождения обучающегося с ОВЗ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00000" y="2361960"/>
            <a:ext cx="8064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частие в разработк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дивидуального Образовательного Плана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ИОП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намическая оценка эффективности реализации ИОП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индивидуализированного образовательного маршрута 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ррекционных программ в рамках психолого-педагогического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провождения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менение образовательной траектории ребенка в О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ординация взаимодействия специалистов по оказанию дополнительной специализированной помощи обучающимс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Равнобедренный треугольник 3"/>
          <p:cNvSpPr/>
          <p:nvPr/>
        </p:nvSpPr>
        <p:spPr>
          <a:xfrm>
            <a:off x="1547640" y="2205000"/>
            <a:ext cx="6120000" cy="4464000"/>
          </a:xfrm>
          <a:prstGeom prst="triangle">
            <a:avLst>
              <a:gd name="adj" fmla="val 50199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Прямая соединительная линия 5"/>
          <p:cNvSpPr/>
          <p:nvPr/>
        </p:nvSpPr>
        <p:spPr>
          <a:xfrm>
            <a:off x="3492360" y="3860640"/>
            <a:ext cx="2232000" cy="0"/>
          </a:xfrm>
          <a:prstGeom prst="line">
            <a:avLst/>
          </a:prstGeom>
          <a:ln w="22320">
            <a:solidFill>
              <a:srgbClr val="003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2771640" y="2637000"/>
            <a:ext cx="374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ровень город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ПМП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2556000" y="5300640"/>
            <a:ext cx="4103640" cy="0"/>
          </a:xfrm>
          <a:prstGeom prst="line">
            <a:avLst/>
          </a:prstGeom>
          <a:ln w="22320">
            <a:solidFill>
              <a:srgbClr val="003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8080" y="825840"/>
            <a:ext cx="7874280" cy="88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Модель сопровождения обучающихс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Прямоугольник 19"/>
          <p:cNvSpPr/>
          <p:nvPr/>
        </p:nvSpPr>
        <p:spPr>
          <a:xfrm>
            <a:off x="1763640" y="3933720"/>
            <a:ext cx="568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ровень школ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ециалисты   сопровожд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сихолог, социальный педагог, логопед, дефектолог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Прямоугольник 20"/>
          <p:cNvSpPr/>
          <p:nvPr/>
        </p:nvSpPr>
        <p:spPr>
          <a:xfrm>
            <a:off x="2195640" y="5445000"/>
            <a:ext cx="489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ровень детского коллектив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сный руководител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706320" y="499680"/>
            <a:ext cx="8163360" cy="131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Организация</a:t>
            </a: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психолого-педагогического сопровождения обучающегося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2320"/>
            <a:ext cx="79819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ариант 1: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 заключению ПМП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ариант 2: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 основании медицинского заклю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ариант 3: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ыявление обучающихся с особыми образовательными потребностя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ариант 4: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рганизация ПП сопровождения для обучающихся, испытывающего трудности в усвоении образовательных программ, развитии и социализации адапт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do</dc:creator>
  <dc:description/>
  <dc:language>en-US</dc:language>
  <cp:lastModifiedBy>39PC</cp:lastModifiedBy>
  <dcterms:modified xsi:type="dcterms:W3CDTF">2022-10-20T12:33:32Z</dcterms:modified>
  <cp:revision>115</cp:revision>
  <dc:subject/>
  <dc:title>PowerPoint Presentation</dc:title>
</cp:coreProperties>
</file>